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6.gif" ContentType="image/gif"/>
  <Override PartName="/ppt/media/image8.gif" ContentType="image/gif"/>
  <Override PartName="/ppt/media/image18.jpeg" ContentType="image/jpeg"/>
  <Override PartName="/ppt/media/image23.jpeg" ContentType="image/jpeg"/>
  <Override PartName="/ppt/media/applause.wav" ContentType="audio/x-wav"/>
  <Override PartName="/ppt/media/image1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.gif" ContentType="image/gif"/>
  <Override PartName="/ppt/media/image17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082-3975-4D43-9EB9-7542E7E8A9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D975-88A8-4A7C-8C49-9617B96C91A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761-0C15-4415-B482-96EE7CC7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593-AF8E-4D3F-854C-4048176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778-D3FC-404D-850B-5289A653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4E8-3A52-47AC-9255-49534863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094C-C733-41E1-9721-215E9BC3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B2D0-C3C6-4B8B-816F-1373E5B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39E-442D-4768-AFE8-F3B143B2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ABEE-38A2-406E-972F-A6095F8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33AC-CFB4-43BC-A8E7-A26B7210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75C-5ED3-462E-84FB-BC8DD1B5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F21A-39CD-4892-884E-9AD39BF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4DD-18BF-48FD-BFA2-D48692DC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C985-4974-4536-A3F8-181F0D6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2131-FD3A-4DA0-8BD0-285946F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2434-0DC7-48C9-A624-904152C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F523-A9B0-49C8-A3E3-D55D6261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9DE-D096-4011-82AD-3A53A860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25B-3573-45D8-861F-1DC4BF5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AF9-8AA5-484D-AD08-60E28CA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345-4F95-42F6-B7EC-EAE80CE8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F9D-29D1-4E43-B328-3570251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EB2-D63C-4D80-9F6D-A2C7DCB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D16-0540-4647-B559-883AD35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E0D-90BA-447C-907F-8A6EADC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5F8-1DA0-4396-A7B2-2EF84A34E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739-29B2-4796-9A72-4F70AAD44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21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8280360" cy="1513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1" lang="ru-RU" sz="5400" spc="-1" strike="noStrike" u="sng">
                <a:solidFill>
                  <a:srgbClr val="006600"/>
                </a:solidFill>
                <a:uFillTx/>
                <a:latin typeface="Comic Sans MS"/>
              </a:rPr>
              <a:t>Исследовательская работа« Мое здоровье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840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« Сколько весит здоровье ученика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611280" y="5300640"/>
            <a:ext cx="80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9b20"/>
                </a:solidFill>
                <a:latin typeface="Comic Sans MS"/>
              </a:rPr>
              <a:t>Автор: Морозова Анастасия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9b20"/>
                </a:solidFill>
                <a:latin typeface="Comic Sans MS"/>
              </a:rPr>
              <a:t>Ученики 4 «А»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09b20"/>
                </a:solidFill>
                <a:latin typeface="Comic Sans MS"/>
              </a:rPr>
              <a:t>МСОШ № 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0" descr="8"/>
          <p:cNvPicPr/>
          <p:nvPr/>
        </p:nvPicPr>
        <p:blipFill>
          <a:blip r:embed="rId1"/>
          <a:stretch/>
        </p:blipFill>
        <p:spPr>
          <a:xfrm rot="21193800">
            <a:off x="8115120" y="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5" descr="I:\фото к призентации\100_0190.JPG"/>
          <p:cNvPicPr/>
          <p:nvPr/>
        </p:nvPicPr>
        <p:blipFill>
          <a:blip r:embed="rId1"/>
          <a:stretch/>
        </p:blipFill>
        <p:spPr>
          <a:xfrm>
            <a:off x="1093680" y="692280"/>
            <a:ext cx="3203640" cy="4897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I:\фото кл портфель\IMG_0871.JPG"/>
          <p:cNvPicPr/>
          <p:nvPr/>
        </p:nvPicPr>
        <p:blipFill>
          <a:blip r:embed="rId2"/>
          <a:stretch/>
        </p:blipFill>
        <p:spPr>
          <a:xfrm>
            <a:off x="4211640" y="907920"/>
            <a:ext cx="33814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Comic Sans MS"/>
              </a:rPr>
              <a:t>Гигиенические требования к изданиям учебников для общего образ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-4классов – 300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-6 классов – 400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-8 классов – 500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-11 классов – 600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альный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в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оответствует требовани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BS00554_"/>
          <p:cNvPicPr/>
          <p:nvPr/>
        </p:nvPicPr>
        <p:blipFill>
          <a:blip r:embed="rId1"/>
          <a:stretch/>
        </p:blipFill>
        <p:spPr>
          <a:xfrm>
            <a:off x="5219640" y="4508640"/>
            <a:ext cx="2089080" cy="1617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P1010358"/>
          <p:cNvPicPr/>
          <p:nvPr/>
        </p:nvPicPr>
        <p:blipFill>
          <a:blip r:embed="rId1"/>
          <a:stretch/>
        </p:blipFill>
        <p:spPr>
          <a:xfrm rot="20839200">
            <a:off x="501480" y="2238480"/>
            <a:ext cx="24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P1000602"/>
          <p:cNvPicPr/>
          <p:nvPr/>
        </p:nvPicPr>
        <p:blipFill>
          <a:blip r:embed="rId2"/>
          <a:stretch/>
        </p:blipFill>
        <p:spPr>
          <a:xfrm rot="166200">
            <a:off x="4501800" y="512640"/>
            <a:ext cx="3564000" cy="3078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6" descr="портфель"/>
          <p:cNvPicPr/>
          <p:nvPr/>
        </p:nvPicPr>
        <p:blipFill>
          <a:blip r:embed="rId3"/>
          <a:stretch/>
        </p:blipFill>
        <p:spPr>
          <a:xfrm>
            <a:off x="4788000" y="4869000"/>
            <a:ext cx="201600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47640" y="189000"/>
          <a:ext cx="6769440" cy="6662520"/>
        </p:xfrm>
        <a:graphic>
          <a:graphicData uri="http://schemas.openxmlformats.org/drawingml/2006/table">
            <a:tbl>
              <a:tblPr/>
              <a:tblGrid>
                <a:gridCol w="1398600"/>
                <a:gridCol w="1400400"/>
                <a:gridCol w="1395360"/>
                <a:gridCol w="2575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Ф.И.О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ес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авильный вес ранца (к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еальный вес ранца (к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лександре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М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утин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Жирохова Крист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Гресь Ди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чкасова На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оляков Ант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Барышев Ма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Иванов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Шарипова 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Закурдаев Ег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826920" y="189000"/>
          <a:ext cx="7921800" cy="5688000"/>
        </p:xfrm>
        <a:graphic>
          <a:graphicData uri="http://schemas.openxmlformats.org/drawingml/2006/table">
            <a:tbl>
              <a:tblPr/>
              <a:tblGrid>
                <a:gridCol w="2640240"/>
                <a:gridCol w="2641680"/>
                <a:gridCol w="263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.И.О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ес ранца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ы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лександре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М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утин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Жирохова Крист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Гресь Ди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Слишком  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чкасова На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оляков Ант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Барышев Ма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Слишком 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Иванов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Шарипова 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Тяж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Закурдаев Ег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7278840"/>
        </p:xfrm>
        <a:graphic>
          <a:graphicData uri="http://schemas.openxmlformats.org/drawingml/2006/table">
            <a:tbl>
              <a:tblPr/>
              <a:tblGrid>
                <a:gridCol w="1498680"/>
                <a:gridCol w="1547640"/>
                <a:gridCol w="1527120"/>
                <a:gridCol w="1524240"/>
                <a:gridCol w="1520640"/>
                <a:gridCol w="1525680"/>
              </a:tblGrid>
              <a:tr h="97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Ф.И.О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не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лексанлреску М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3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3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9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5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утин Вл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5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45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Жирох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Крис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3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Гресь Диа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8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5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5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чкасова  Ната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5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7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2 кг 3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Поля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7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1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7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17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Барыше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Мар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 72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 1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8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 1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8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Ива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Екат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9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17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1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Шарип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И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6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67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2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кг 7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3 кг 20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Понаблюдав в течение недели за весом ранцев, мы обнаружили, что самым тяжелым ранец бывает в среду и пятницу: 4,45 кг или 4,34 кг (без сменной обуви и дополнительной книги). А в данные дни он должен быть менее нагруженным. Самым легким ранец оказался в понедельник и четверг. Вес тяжеловеса в эти дни достигал 3,42 кг, причем не учитывался вес сменной обуви и дополнительной книги. Так что даже в эти дни вес не соответствовал гигиеническим норм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ismonda"/>
              </a:rPr>
              <a:t>Выводы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18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Comic Sans MS"/>
              </a:rPr>
              <a:t>Ранцы – тяжеловесы могут стать причиной различных патологий в развитии опорно-двигательной и сердечно-сосудистой систе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328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6" descr="школьница с ранцем"/>
          <p:cNvPicPr/>
          <p:nvPr/>
        </p:nvPicPr>
        <p:blipFill>
          <a:blip r:embed="rId1"/>
          <a:stretch/>
        </p:blipFill>
        <p:spPr>
          <a:xfrm>
            <a:off x="142920" y="5357880"/>
            <a:ext cx="1576440" cy="164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дети с ранцем"/>
          <p:cNvPicPr/>
          <p:nvPr/>
        </p:nvPicPr>
        <p:blipFill>
          <a:blip r:embed="rId2"/>
          <a:stretch/>
        </p:blipFill>
        <p:spPr>
          <a:xfrm>
            <a:off x="6286680" y="5072040"/>
            <a:ext cx="1871640" cy="1546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baby18"/>
          <p:cNvPicPr/>
          <p:nvPr/>
        </p:nvPicPr>
        <p:blipFill>
          <a:blip r:embed="rId3"/>
          <a:stretch/>
        </p:blipFill>
        <p:spPr>
          <a:xfrm>
            <a:off x="539640" y="260280"/>
            <a:ext cx="1001880" cy="13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75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75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комендации ученик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носите лишнего в ранц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веряйте ранец ежедневно и не забывайте вытащить из него ненужные учеб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FS57CCAPKUND6CATKO3K1CAPZ6JDNCAYMM31BCAST3WEWCAM5XA0MCABUQSIZCAPAF31KCA0XQUFJCALSI74SCANA49Z3CAP182OSCAFTK4RECACO7E4ECAUCBM7XCARG8B7RCA6H14TQCA8RSY5MCA1R9O7Y"/>
          <p:cNvPicPr/>
          <p:nvPr/>
        </p:nvPicPr>
        <p:blipFill>
          <a:blip r:embed="rId1"/>
          <a:stretch/>
        </p:blipFill>
        <p:spPr>
          <a:xfrm rot="595800">
            <a:off x="5152680" y="4149360"/>
            <a:ext cx="2305080" cy="1892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aby08[1]"/>
          <p:cNvPicPr/>
          <p:nvPr/>
        </p:nvPicPr>
        <p:blipFill>
          <a:blip r:embed="rId2"/>
          <a:stretch/>
        </p:blipFill>
        <p:spPr>
          <a:xfrm>
            <a:off x="0" y="2142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76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комендации родител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сим вас: не покупайте тяжелые ранцы! Врачи рекомендуют средний вес пустого ранца для ученика начальной школы — 400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ваших детей от тяжелых нагрузок портится оса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ши дети быстрее устают, таская за своей спиной тяжеловес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жалуйста, позаботьтесь о ваших детях и об их здоровь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680" y="1714680"/>
            <a:ext cx="7696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Активизировать познавательную деятельность учеников при изучении темы «Человек», обратить внимание на сбережение своего здоровья (осанки) путем ежедневного контроля тяжестей за спин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упповые исследовательские работы выполня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85880" y="1928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орозова Н, Александреску М,Путин В, Жирохова К, Гесь Д, Ачкасова Н, Поляков А, Барышев М, Иванова К, Шарипова И, Закурдаев Е ученики 4-го «А» класса (руководитель – Н.И Плющёва, учитель МСОШ № 30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Рисунок 7" descr="http://nsc.1september.ru/2008/05/21.jpg"/>
          <p:cNvPicPr/>
          <p:nvPr/>
        </p:nvPicPr>
        <p:blipFill>
          <a:blip r:embed="rId1"/>
          <a:stretch/>
        </p:blipFill>
        <p:spPr>
          <a:xfrm rot="774000">
            <a:off x="7327800" y="5597640"/>
            <a:ext cx="1184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8709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640" y="1828800"/>
            <a:ext cx="8351640" cy="26798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ак тяжелый ранец влияет на осанку ребенка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колько должен весить ранец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9" descr="CAMRARUN"/>
          <p:cNvPicPr/>
          <p:nvPr/>
        </p:nvPicPr>
        <p:blipFill>
          <a:blip r:embed="rId1"/>
          <a:stretch/>
        </p:blipFill>
        <p:spPr>
          <a:xfrm>
            <a:off x="7143840" y="214200"/>
            <a:ext cx="1780920" cy="1781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дети с ранцем"/>
          <p:cNvPicPr/>
          <p:nvPr/>
        </p:nvPicPr>
        <p:blipFill>
          <a:blip r:embed="rId2"/>
          <a:stretch/>
        </p:blipFill>
        <p:spPr>
          <a:xfrm>
            <a:off x="3203640" y="4653000"/>
            <a:ext cx="2089080" cy="193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шк рюкзак"/>
          <p:cNvPicPr/>
          <p:nvPr/>
        </p:nvPicPr>
        <p:blipFill>
          <a:blip r:embed="rId3"/>
          <a:stretch/>
        </p:blipFill>
        <p:spPr>
          <a:xfrm>
            <a:off x="500040" y="142920"/>
            <a:ext cx="1535040" cy="1598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FS57CCAPKUND6CATKO3K1CAPZ6JDNCAYMM31BCAST3WEWCAM5XA0MCABUQSIZCAPAF31KCA0XQUFJCALSI74SCANA49Z3CAP182OSCAFTK4RECACO7E4ECAUCBM7XCARG8B7RCA6H14TQCA8RSY5MCA1R9O7Y"/>
          <p:cNvPicPr/>
          <p:nvPr/>
        </p:nvPicPr>
        <p:blipFill>
          <a:blip r:embed="rId4"/>
          <a:stretch/>
        </p:blipFill>
        <p:spPr>
          <a:xfrm>
            <a:off x="6372360" y="4653000"/>
            <a:ext cx="19429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8709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Наши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анализировать данные в медицинской литературе по теме исслед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Описать, как влияют тяжелые ранцы на растущий организм ребе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Comic Sans MS"/>
              </a:rPr>
              <a:t>Доказать, что тяжелый ранец вредит здоров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Comic Sans MS"/>
              </a:rPr>
              <a:t>Обратить внимание на сбережение своего здоровья (осанки) путем ежедневного контроля тяжестей за спи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20" descr="aee36fd9ad4f343ebeb4c08bf03607ed[1]"/>
          <p:cNvPicPr/>
          <p:nvPr/>
        </p:nvPicPr>
        <p:blipFill>
          <a:blip r:embed="rId1"/>
          <a:stretch/>
        </p:blipFill>
        <p:spPr>
          <a:xfrm>
            <a:off x="684360" y="0"/>
            <a:ext cx="136656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girlread1"/>
          <p:cNvPicPr/>
          <p:nvPr/>
        </p:nvPicPr>
        <p:blipFill>
          <a:blip r:embed="rId2"/>
          <a:stretch/>
        </p:blipFill>
        <p:spPr>
          <a:xfrm>
            <a:off x="5796000" y="4797360"/>
            <a:ext cx="187164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11280" y="189000"/>
            <a:ext cx="6804000" cy="114300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_AlgeriusCmFtz1"/>
              </a:rPr>
              <a:t>Объект исследования: </a:t>
            </a:r>
            <a:r>
              <a:rPr b="0" lang="ru-RU" sz="3600" spc="-1" strike="noStrike">
                <a:solidFill>
                  <a:srgbClr val="ff0000"/>
                </a:solidFill>
                <a:latin typeface="a_AlgeriusCmFtz1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1773360"/>
            <a:ext cx="72360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e00"/>
                </a:solidFill>
                <a:latin typeface="Comic Sans MS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осанка школьника – основа здоров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Участники исследования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1" lang="ru-RU" sz="3600" spc="-1" strike="noStrike">
                <a:solidFill>
                  <a:srgbClr val="00fe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Comic Sans MS"/>
              </a:rPr>
              <a:t>группа ребят 4 «А» класса</a:t>
            </a:r>
            <a:r>
              <a:rPr b="1" lang="ru-RU" sz="3600" spc="-1" strike="noStrike">
                <a:solidFill>
                  <a:srgbClr val="00fe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7" descr="анимашки 081"/>
          <p:cNvPicPr/>
          <p:nvPr/>
        </p:nvPicPr>
        <p:blipFill>
          <a:blip r:embed="rId1"/>
          <a:stretch/>
        </p:blipFill>
        <p:spPr>
          <a:xfrm>
            <a:off x="6659640" y="4365720"/>
            <a:ext cx="1944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89000"/>
            <a:ext cx="6804000" cy="114300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_AlgeriusCmFtz1"/>
              </a:rPr>
              <a:t>Мы предполагае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72360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осанку школьникам портят тяжелые ранцы и особенно модные сумки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дети с рюкзаком"/>
          <p:cNvPicPr/>
          <p:nvPr/>
        </p:nvPicPr>
        <p:blipFill>
          <a:blip r:embed="rId1"/>
          <a:stretch/>
        </p:blipFill>
        <p:spPr>
          <a:xfrm>
            <a:off x="2268360" y="3933720"/>
            <a:ext cx="365292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47640" y="404280"/>
            <a:ext cx="525636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_AlgeriusBlw"/>
              </a:rPr>
              <a:t>Вот как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_AlgeriusBlw"/>
              </a:rPr>
              <a:t> мы работал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baby09"/>
          <p:cNvPicPr/>
          <p:nvPr/>
        </p:nvPicPr>
        <p:blipFill>
          <a:blip r:embed="rId1"/>
          <a:stretch/>
        </p:blipFill>
        <p:spPr>
          <a:xfrm>
            <a:off x="6143760" y="5214960"/>
            <a:ext cx="1582560" cy="115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aby07"/>
          <p:cNvPicPr/>
          <p:nvPr/>
        </p:nvPicPr>
        <p:blipFill>
          <a:blip r:embed="rId2"/>
          <a:stretch/>
        </p:blipFill>
        <p:spPr>
          <a:xfrm>
            <a:off x="539640" y="404640"/>
            <a:ext cx="1133640" cy="107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I:\фото кл портфель\IMG_0870.JPG"/>
          <p:cNvPicPr/>
          <p:nvPr/>
        </p:nvPicPr>
        <p:blipFill>
          <a:blip r:embed="rId3"/>
          <a:stretch/>
        </p:blipFill>
        <p:spPr>
          <a:xfrm rot="21334800">
            <a:off x="1604880" y="2278080"/>
            <a:ext cx="436716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чебные пособ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может быть, причина не только в ранцах, но и в учебных пособиях? Для этого мы  взвесили все учебные  пособия «Литературное чтение» – 200 г; «Математика» – 230 г; «Русский язык» – 300 г; «Окружающий мир» – 200 г; Дневник – 100 г;  «Английский язык» – 500 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BS00554_"/>
          <p:cNvPicPr/>
          <p:nvPr/>
        </p:nvPicPr>
        <p:blipFill>
          <a:blip r:embed="rId1"/>
          <a:stretch/>
        </p:blipFill>
        <p:spPr>
          <a:xfrm rot="363600">
            <a:off x="985320" y="361440"/>
            <a:ext cx="1500480" cy="1162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57168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книги соответствовали гигиеническим нормам – 300 г для учеников начальной школы. Нашелся и «нарушитель» – учебник английского языка массой 500 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25" descr="lady_news_anchor_md_wht"/>
          <p:cNvPicPr/>
          <p:nvPr/>
        </p:nvPicPr>
        <p:blipFill>
          <a:blip r:embed="rId2"/>
          <a:stretch/>
        </p:blipFill>
        <p:spPr>
          <a:xfrm>
            <a:off x="6429240" y="5000760"/>
            <a:ext cx="158436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лющева</cp:lastModifiedBy>
  <dcterms:modified xsi:type="dcterms:W3CDTF">2010-01-28T10:51:00Z</dcterms:modified>
  <cp:revision>79</cp:revision>
  <dc:subject/>
  <dc:title>PowerPoint Presentation</dc:title>
</cp:coreProperties>
</file>